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hould have received agenda at registration - If not check with any of the coaches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hould have received a handout of room locations at registration. If not buddy up with someone!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You only get out of today -  What you put into today!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guide.com/_pages/0511-0709-0401-3307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entralpacff.wikispaces.com/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851040"/>
            <a:ext cx="1046484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nglish, Language Arts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nd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orld Language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llaboration Da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67690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Welcome to BCI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79000" y="1054080"/>
            <a:ext cx="12496680" cy="51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orld Language</a:t>
            </a:r>
            <a:br>
              <a:rPr sz="8400"/>
            </a:br>
            <a:br>
              <a:rPr sz="8400"/>
            </a:br>
            <a:r>
              <a:rPr b="0" lang="en-US" sz="11500" spc="-1" strike="noStrike" u="sng">
                <a:solidFill>
                  <a:srgbClr val="ffffff"/>
                </a:solidFill>
                <a:uFillTx/>
                <a:latin typeface="Gill Sans"/>
              </a:rPr>
              <a:t>http://goo.gl/XHZnF</a:t>
            </a:r>
            <a:endParaRPr b="0" lang="en-US" sz="115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irport Acces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7560" y="3505320"/>
            <a:ext cx="993132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Join the “GUEST” network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Today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520560" y="3973680"/>
            <a:ext cx="11950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ill Sans"/>
                <a:ea typeface="Gill Sans"/>
              </a:rPr>
              <a:t>This is NOT a training day!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ill Sans"/>
                <a:ea typeface="Gill Sans"/>
              </a:rPr>
              <a:t>This IS a sharing day!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oa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19040" y="2438280"/>
            <a:ext cx="12827160" cy="63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ring teachers together who are doing exemplary work and using technology tools to change their pedagogy.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ers will showcase their work for others to learn and take ideas back to their schools.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reinvent the wheel when we can all work together and share our ideas? 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5076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gend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ap of Room Loca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-139680" y="1701720"/>
            <a:ext cx="14452560" cy="81662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2611160" y="2489040"/>
            <a:ext cx="1270080" cy="12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ules of the Day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507960" y="2882880"/>
            <a:ext cx="128271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Thank the presenter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ank your coache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hare - Share - Share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Attend as many sessions as possible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Please turn off Cell Phones! 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Have a GREAT DAY!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-4320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YOU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8381520" y="8246160"/>
            <a:ext cx="430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lipartguide.com/_pages/0511-0709-0401-3307.html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197160" y="1549440"/>
            <a:ext cx="7534440" cy="66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erks PA Wiki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-883440" y="2469600"/>
            <a:ext cx="147592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1"/>
              </a:rPr>
              <a:t>http://centralpacff.wikispaces.com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-380880" y="3860640"/>
            <a:ext cx="12941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  <a:ea typeface="Verdana"/>
              </a:rPr>
              <a:t>CFFENGLISH 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  <a:ea typeface="Gill Sans"/>
              </a:rPr>
              <a:t>PA Listserv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2603520" y="5886360"/>
            <a:ext cx="77979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Verdana"/>
              </a:rPr>
              <a:t>To subscribe, send an email to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listserv@mailinglist.caiu.or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Lucida Grande"/>
              </a:rPr>
              <a:t>In the BODY, put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Lucida Grande"/>
              </a:rPr>
              <a:t>Subscribe cffenglish yourfirstname yourlastnam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